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DC3-8627-4D46-B0EA-FF014199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918-F174-4D92-A507-F1E5EE91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2F2-FB4B-4B23-8456-2BB1357A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E99-180D-49C2-B85D-D67FFAE4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399-3247-4955-97FA-7319D1CD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488B-77FD-436E-A2BF-0484C622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D64-D7AF-4378-8A32-C050245E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BD8-D5D7-40D1-809D-8CDAA048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A80-6DEA-472C-BD7A-AAA22358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6FE-92E6-43CE-9339-FEC41D6F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67A-B08E-4D7A-82C9-093FE191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6F0-7F1F-4179-8E95-66559AE8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D871-9E58-41C4-AF52-A31623EF7DA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.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6.0.20100930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9-30T11:16:10Z</dcterms:modified>
  <cp:revision>102</cp:revision>
  <dc:subject/>
  <dc:title>投影片 1</dc:title>
</cp:coreProperties>
</file>